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97188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0" y="8832600"/>
            <a:ext cx="30384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971880" y="8832600"/>
            <a:ext cx="30384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F4E3-7967-4432-A198-0EACE82AC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follow up to Myra’s presentation on How ESG works to serve the GIO purpose and obje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k is at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Times New Roman"/>
              </a:rPr>
              <a:t>http://esg.gsfc.nasa.gov/weswww/intr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over purpose and objective given by My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SOA mecha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A-based ESG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ence ESG through its functionalities,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future pl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A is an architecture to build information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ice is the key of SOA, service can be built from functional components of an information syste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A provides a mechanism to support the rapid prototyping of applications by leveraging the flexibility of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 supports the publishing of online resources, such as web services and document, into the cata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urces will be registered in the catalog by recording relevant information in ISO or FGDC metadata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G could access online resources and extract as much information as it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 resources is published or harvested by ESG, an ESG search/discovery will be able to find the re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2.demis.nl/mapserver/request.a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nmcatalog.usgs.gov/catalogwms/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ms.jpl.nasa.gov/wms.c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globe.digitalearth.gov/viz-bin/wmt.c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132.156.10.87/cgi-bin/atlaswms_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152.61.128.152/servlet/com.esri.wms.Esrimap/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129.174.58.94:8080/wfsconnector/com.esri.wfs.Esrimap/va_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eamap.env.duke.edu/ogc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unidata.scs.gmu.edu:8080/WebModuleWMS/wms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129.174.58.94/ntad/request.asp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athena.pin.unifi.it:8080/galeon/WCS-v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map.ns.ec.gc.ca/contourservice/map.asp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we do the demo, we should keep in mind that we don’t control the QoS of services provided by oth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r maybe offlin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ice url maybe changed after registratio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ice layer names may be changed after reg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 through ESG can 1) locate places, 2) discovery data services, 3) discovery web services, and 4) discovery other resource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 a place name from the audience and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 “World” to find data/web services, build a TM image based jurisdiction appl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logical, vegetation code: Canada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urly Aviation weather report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traf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cipitation: DataF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Quality: Datafed on SOx,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 05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llaboration function can be sharing files, images, 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up a discussing thread through J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phase II of ESG is accomplished, we will work with our federal and non-profit organizations,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their purposes &amp; objectives,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ce ESG/Geoscience Interoper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5BE28-61FC-433D-8B1F-BEE937AA06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3B4D3-8B3D-414E-9DF2-41B29E454E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881A0-FD39-482E-B1A8-2C1C293675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DB1F1-25A6-49F0-8786-A57B9BF887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008F0-3631-43ED-8F98-BA594CA046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04a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6685E-2CEA-4650-BBB9-04E7DBF487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71DF2-D853-4F16-9EB3-474F0D4D899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8449A-FE82-4B07-8005-D7F61E9BCF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37700-D43B-41C1-ACC3-6CE78A91DA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04a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DC3E9-A4F1-4C33-8C4E-4C040E586F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267A3-DD61-4BF6-BBC3-E7233086A8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04a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68E58-96DD-44F4-AA80-B9748DD493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B2059-C56D-4B6D-917A-21319970E9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CFFEB-A015-4B3B-90A8-755817148D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BDB42-B845-4B08-A28B-F200BADF07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4A8BD-B9F9-49EC-B6EB-0A0CF80883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C2B19-6A86-41AA-9954-5E89A6409F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DBF19-9D02-47DD-AEC0-A3052B94B3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99E83-1725-4A2B-B400-634377DB87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9214F-539D-4AFF-86BB-18866E447A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04a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9FAFF-44DB-42EF-98A9-2AD5AA1821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9BF8C-7D4D-4695-A855-22EA7BFE74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2FCFC-FDDE-4B09-9BF3-3938CA628F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57903-36D3-4EC8-AB51-366CA4A19A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166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lastslide"/>
          </p:cNvPr>
          <p:cNvSpPr/>
          <p:nvPr/>
        </p:nvSpPr>
        <p:spPr>
          <a:xfrm>
            <a:off x="8933040" y="0"/>
            <a:ext cx="2109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173160" y="6021360"/>
            <a:ext cx="841320" cy="7128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7238880" y="6503760"/>
            <a:ext cx="19051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A8B0-FDC0-415C-BADE-655EF43FE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708200" y="6553080"/>
            <a:ext cx="470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ESIP Federation UMD Nov. 13, 2006 Planning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ldNum" idx="2"/>
          </p:nvPr>
        </p:nvSpPr>
        <p:spPr>
          <a:xfrm>
            <a:off x="6465600" y="63039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54B3-1CEB-4008-9A58-70B1589B1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924680" y="6618240"/>
            <a:ext cx="1219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69800" y="1103040"/>
            <a:ext cx="8344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4a84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104a84"/>
              </a:solidFill>
              <a:latin typeface="Arial"/>
            </a:endParaRPr>
          </a:p>
          <a:p>
            <a:pPr lvl="1" marL="284040" indent="0"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8280" indent="112680" algn="ctr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19080" indent="112680" algn="ctr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112680" algn="ctr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7480" indent="1126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7480" indent="1126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60200" y="204840"/>
            <a:ext cx="841680" cy="712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55760" y="2013120"/>
            <a:ext cx="8261280" cy="263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SA's Earth Science Gatew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IP Meeting at College Park, Nov. 13, 2006</a:t>
            </a:r>
            <a:br>
              <a:rPr sz="3200"/>
            </a:br>
            <a:br>
              <a:rPr sz="2400"/>
            </a:b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http://esg.gsfc.nasa.gov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4120" y="4787640"/>
            <a:ext cx="6594120" cy="168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04a84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. Phil Yang, GeoScience Information Scientist</a:t>
            </a:r>
            <a:endParaRPr b="1" lang="en-US" sz="2000" spc="-1" strike="noStrike">
              <a:solidFill>
                <a:srgbClr val="104a84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SA/GMU</a:t>
            </a:r>
            <a:endParaRPr b="1" lang="en-US" sz="2000" spc="-1" strike="noStrike">
              <a:solidFill>
                <a:srgbClr val="104a84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ed Sciences Program </a:t>
            </a:r>
            <a:endParaRPr b="1" lang="en-US" sz="2000" spc="-1" strike="noStrike">
              <a:solidFill>
                <a:srgbClr val="104a84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osciences Interoperability Office</a:t>
            </a:r>
            <a:endParaRPr b="1" lang="en-US" sz="2000" spc="-1" strike="noStrike">
              <a:solidFill>
                <a:srgbClr val="104a8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25200" y="57240"/>
            <a:ext cx="723276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NASA's ESG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1240" y="2019240"/>
            <a:ext cx="77184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5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 to Service Oriented Architecture (SO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5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G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5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G Function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81240">
              <a:lnSpc>
                <a:spcPct val="95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81240">
              <a:lnSpc>
                <a:spcPct val="95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/Disc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81240">
              <a:lnSpc>
                <a:spcPct val="95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ized Accou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5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30A6D-5CEB-4224-A213-25ADDEAD48AE}" type="slidenum">
              <a:t>2</a:t>
            </a:fld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troduction to SOA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897200" y="1601640"/>
          <a:ext cx="5341680" cy="294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97200" y="1601640"/>
                    <a:ext cx="5341680" cy="29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682560" y="4781520"/>
            <a:ext cx="798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s are registered in catalog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alo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roker registered Service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s integrate application logic to access Servic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BC9C0-AC43-4D07-A4DC-F166C6C47D0B}" type="slidenum">
              <a:t>3</a:t>
            </a:fld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G Architecture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3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038240" y="912960"/>
          <a:ext cx="7823160" cy="640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38240" y="912960"/>
                    <a:ext cx="7823160" cy="64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73F11-7E35-413C-ABCD-693342E04DA2}" type="slidenum">
              <a:t>4</a:t>
            </a:fld>
          </a:p>
        </p:txBody>
      </p:sp>
    </p:spTree>
  </p:cSld>
  <p:transition advTm="1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2880" y="0"/>
            <a:ext cx="766476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G Functionality: Publishing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70760" y="1700280"/>
            <a:ext cx="207324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G supports OGC Catalog transactions (v2.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G supports FGDC and ISO metadata stand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RIM schema facilitates adding resource 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01680" y="6194160"/>
            <a:ext cx="407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bRIM: ebXML Registry Information Mode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44680" y="1089000"/>
            <a:ext cx="6430680" cy="4822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DDBB4-3FB3-45F4-896D-2CDB9B436729}" type="slidenum">
              <a:t>5</a:t>
            </a:fld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827680" y="2055960"/>
            <a:ext cx="3316320" cy="33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an intuitive user interfa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5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G also serves XML queries according to the OGC Catalog Interface (2.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378080" y="74160"/>
            <a:ext cx="7232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G Functionality: Discovering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11360" y="942840"/>
            <a:ext cx="5101920" cy="508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CB93E-A3C9-4583-87FF-A3064C13331D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95600" y="74160"/>
            <a:ext cx="7232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G Clien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96880" y="957240"/>
            <a:ext cx="8310600" cy="51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E7937-0E7A-4345-BE8B-B5DD7612DD49}" type="slidenum">
              <a:t>7</a:t>
            </a:fld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297080" y="262080"/>
            <a:ext cx="43117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ollaboration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98400" y="2400480"/>
            <a:ext cx="611820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SA Applied Scienc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IP and its Earth Information E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SS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 Federal Part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061CC-6737-4706-8D3E-967A05F5E1A9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estions &amp; Comments 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38160" y="2685600"/>
            <a:ext cx="820584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 for your Attention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: cyang3@gmu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E0924-000D-4324-A0D0-D43395BE7865}" type="slidenum">
              <a:t>9</a:t>
            </a:fld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17:36:49Z</dcterms:created>
  <dc:creator>GIO</dc:creator>
  <dc:description/>
  <cp:keywords/>
  <dc:language>en-US</dc:language>
  <cp:lastModifiedBy>Phil Yang</cp:lastModifiedBy>
  <cp:lastPrinted>2005-12-14T15:57:00Z</cp:lastPrinted>
  <dcterms:modified xsi:type="dcterms:W3CDTF">2006-11-13T20:27:21Z</dcterms:modified>
  <cp:revision>546</cp:revision>
  <dc:subject/>
  <dc:title>ESG Presentation</dc:title>
</cp:coreProperties>
</file>